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75a5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c75a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2505F-CD61-4B9A-AA27-FEC1F5804F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c75a5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F4333F-ED5E-434D-A365-428B4B6A7C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CD24CD-4EBE-4FE3-B171-1A7BC8D2C985}" type="slidenum">
              <a:rPr b="0" lang="en-US" sz="1200" spc="-1" strike="noStrike">
                <a:solidFill>
                  <a:srgbClr val="4c75a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c75a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AA17-7675-40AD-B574-D6F55EFC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35B0-CB79-4826-B959-F5FE9860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60FB-B1EF-46D5-A6ED-EAB2EB88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2439-796D-4213-B068-BF3293FE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92F9-982F-4183-87F1-2F75B452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4CE-579D-42A3-AC47-FB7F5012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24F6-777C-48A2-BFB3-05BFCFAF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BA52-CA0F-42EF-A17C-871C541C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4541-99BF-4298-8910-5CF9FA9E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5896-D6B4-43F0-B464-330891E0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21F6-2525-450D-946D-D2F2AC34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032A-1BCC-40CD-9421-329D3FDD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7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4c75a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4c75a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9CFFC1-F346-44FF-A2D1-3ABFA0658E6F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c75a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6a6c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1427E-9010-4D0C-BAF5-C21394781FEF}" type="slidenum">
              <a:rPr b="0" lang="en-US" sz="1200" spc="-1" strike="noStrike">
                <a:solidFill>
                  <a:srgbClr val="96a6c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S15_main.pdf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9280" y="1714320"/>
            <a:ext cx="6624720" cy="3429000"/>
          </a:xfrm>
          <a:prstGeom prst="rect">
            <a:avLst/>
          </a:prstGeom>
          <a:solidFill>
            <a:srgbClr val="41464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 Overview of Next-Generation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Graphics APIs</a:t>
            </a:r>
            <a:br>
              <a:rPr sz="22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rse Organiz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hris Wyman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NVI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714320"/>
            <a:ext cx="25192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pic>
        <p:nvPicPr>
          <p:cNvPr id="51" name="Picture 42" descr="S15_sub.pdf"/>
          <p:cNvPicPr/>
          <p:nvPr/>
        </p:nvPicPr>
        <p:blipFill>
          <a:blip r:embed="rId1"/>
          <a:stretch/>
        </p:blipFill>
        <p:spPr>
          <a:xfrm>
            <a:off x="0" y="0"/>
            <a:ext cx="9144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rse 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200240"/>
            <a:ext cx="82296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rse 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of change in graphics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ts of excitement in the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rse 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ed as the course I want to atten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rse 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ed as the course I want to atten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e know prior APIs &amp; graphics pi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line differences from prior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ef comparison of new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er important API specif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re developer case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rse 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9:05 am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view: Next-Geneneration Graphics APIs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im Foley (NVID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9:35 am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Whirlwind Tour of Vulka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raham Sellers (AM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0:05 am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view of DirectX 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as Boyd (Microsof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0:35 am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Next-Gen APIs on Mobile GP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Jesse Hall (Goog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rse 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1:05 am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Deal With An Asynchronous World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an Baker (Oxid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1:25 am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e Study:  Porting Source 2 to Vulk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an Ginsberg (Val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1:45 am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e Study:  Porting Unity to New AP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ras Pranckevicius (Unity Technologi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2:05 am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nel Q&amp;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6T16:08:20Z</dcterms:created>
  <dc:creator>Todd Szymanski</dc:creator>
  <dc:description/>
  <dc:language>en-US</dc:language>
  <cp:lastModifiedBy>Chris Wyman</cp:lastModifiedBy>
  <dcterms:modified xsi:type="dcterms:W3CDTF">2015-08-11T07:20:48Z</dcterms:modified>
  <cp:revision>23</cp:revision>
  <dc:subject/>
  <dc:title>Slide 1</dc:title>
</cp:coreProperties>
</file>