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75a5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c75a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FA40B-ADA8-4669-BC16-455BD2E4FD2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c75a5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02F12-0FEA-48E6-A2C8-AB8138D81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ECD51-2647-4E5F-A3C2-403904248C8D}" type="slidenum">
              <a:rPr b="0" lang="en-US" sz="1200" spc="-1" strike="noStrike">
                <a:solidFill>
                  <a:srgbClr val="4c75a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4c75a5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B274-7829-49A1-A673-3371DD5E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7F8-1CFB-4267-AA58-126A1FD0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D34-FD3F-4E1B-844C-9DC84E09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FD73-B6D8-4C9C-9F38-45D3E2BA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6A9-554C-4EDF-BE0B-E121B3A6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C8F-DD35-4039-B458-CDF3D181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04C-3E09-4506-B6BD-D349AD00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322-17B5-4F7C-82C5-B7E23176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1EA6-4E87-4D34-A5FC-4D9C2807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7578-6893-4AA2-9A5F-77CB1AE7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D3C-0218-4A11-875F-08BFC8E3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733-5E80-4B23-9270-07DBD652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75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4c75a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4c75a5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2C8B3-E9D8-4F32-8AFB-996F8ABF451A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c75a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6a6c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C391D-2B7C-44CF-94C5-25FC8F0E7464}" type="slidenum">
              <a:rPr b="0" lang="en-US" sz="1200" spc="-1" strike="noStrike">
                <a:solidFill>
                  <a:srgbClr val="96a6c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15_main.pdf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19280" y="1714320"/>
            <a:ext cx="6624720" cy="3429000"/>
          </a:xfrm>
          <a:prstGeom prst="rect">
            <a:avLst/>
          </a:prstGeom>
          <a:solidFill>
            <a:srgbClr val="41464c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n Overview of Next-Generation 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Graphics APIs</a:t>
            </a:r>
            <a:br>
              <a:rPr sz="2200"/>
            </a:b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rse Organiz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Chris Wyman</a:t>
            </a:r>
            <a:br>
              <a:rPr sz="1200"/>
            </a:b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NVID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1714320"/>
            <a:ext cx="251928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7f7f7f"/>
              </a:solidFill>
              <a:latin typeface="Arial"/>
            </a:endParaRPr>
          </a:p>
        </p:txBody>
      </p:sp>
      <p:pic>
        <p:nvPicPr>
          <p:cNvPr id="51" name="Picture 42" descr="S15_sub.pdf"/>
          <p:cNvPicPr/>
          <p:nvPr/>
        </p:nvPicPr>
        <p:blipFill>
          <a:blip r:embed="rId1"/>
          <a:stretch/>
        </p:blipFill>
        <p:spPr>
          <a:xfrm>
            <a:off x="0" y="0"/>
            <a:ext cx="9144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se 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82296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se 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of change in graphics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ts of excitement in the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se 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ed as the course I want to atten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se Motiv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ed as the course I want to atten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ume know prior APIs &amp; graphics pi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line differences from prior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ef comparison of new AP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ver important API specif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e developer case stu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se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9:05 am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view: Next-Geneneration Graphics APIs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im Foley (NVID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9:35 am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 Whirlwind Tour of Vulka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Graham Sellers (AM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0:05 am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view of DirectX 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as Boyd (Microsof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0:35 am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Next-Gen APIs on Mobile GP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Jesse Hall (Goog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se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1:05 am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to Deal With An Asynchronous World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an Baker (Oxid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1:25 am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 Study:  Porting Source 2 to Vulk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Dan Ginsberg (Val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1:45 am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e Study:  Porting Unity to New AP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ras Pranckevicius (Unity Technologi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12:05 am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nel Q&amp;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6T16:08:20Z</dcterms:created>
  <dc:creator>Todd Szymanski</dc:creator>
  <dc:description/>
  <dc:language>en-US</dc:language>
  <cp:lastModifiedBy>Chris Wyman</cp:lastModifiedBy>
  <dcterms:modified xsi:type="dcterms:W3CDTF">2015-08-11T07:20:48Z</dcterms:modified>
  <cp:revision>23</cp:revision>
  <dc:subject/>
  <dc:title>Slide 1</dc:title>
</cp:coreProperties>
</file>